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5"/>
          </p:nvPr>
        </p:nvSpPr>
        <p:spPr>
          <a:xfrm>
            <a:off x="3900240" y="0"/>
            <a:ext cx="29811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DAB0-4DD8-42F2-94C8-8B938D748B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6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7"/>
          </p:nvPr>
        </p:nvSpPr>
        <p:spPr>
          <a:xfrm>
            <a:off x="3900240" y="8831160"/>
            <a:ext cx="29811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FB88-5710-4252-9E71-0A48D2A24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3900600" y="0"/>
            <a:ext cx="2981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5F1A-90B8-4952-AB4E-DD7AEE229C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3900600" y="8831160"/>
            <a:ext cx="2981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A3BC-A96F-4AFE-BBCD-07386F854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A3093-1A34-4C50-AF82-C7401B26A2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B4A24-9398-4C57-9D87-7A2D61E3F5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FB946-35DA-414F-97AE-08285C51F0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34E40-41CE-44A5-AB65-49B442B7B7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03DD-C064-4B9A-8FA0-F50B20215D5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6D24-7484-4DB8-8BB9-01FA991F37F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7679-DD2A-4234-B61A-A3A2FD7BE7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EE7C-C99C-4EA9-92E6-80EB84EA81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C458-33F5-4CA0-9835-FC21DD997E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5B46-1556-4162-BB95-6350BAB593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421F-61E5-4F73-B2D4-7CE21BA0B8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B1644-097D-4DB5-91F9-335C2B572F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5B79-984A-4047-A3C7-867AB2B9AA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CEC9-F2D2-47B5-B682-F41B873EEC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6F12-F096-43D5-98CB-FAADAF0A72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7231-7215-47C4-A437-F83F8A434F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B1DF-FA0A-4AE2-B16B-E72756CDD8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75113-D237-4A9B-9B40-9CB05F7AFC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3BE08-7C94-4547-BFB7-F3C4B71566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FCC96-1759-45F2-AE91-15A0CCAF4F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27BBD-0BCF-40C2-A095-FCF38B0E8F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838AD-AA45-4D49-BE4E-74C2C81DBD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FA214-72CE-486D-B43E-C13E66E86D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4E431-CB14-445D-A9E4-0E26904828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16908" r="0" b="0"/>
          <a:stretch/>
        </p:blipFill>
        <p:spPr>
          <a:xfrm>
            <a:off x="0" y="0"/>
            <a:ext cx="9140760" cy="609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33624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6640" indent="-3376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56120" indent="-33768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95600" indent="-3376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95600" indent="-337680"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95600" indent="-337680"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3429000" y="6248520"/>
            <a:ext cx="5715000" cy="457200"/>
            <a:chOff x="3429000" y="6248520"/>
            <a:chExt cx="5715000" cy="457200"/>
          </a:xfrm>
        </p:grpSpPr>
        <p:sp>
          <p:nvSpPr>
            <p:cNvPr id="3" name="Line 5"/>
            <p:cNvSpPr/>
            <p:nvPr/>
          </p:nvSpPr>
          <p:spPr>
            <a:xfrm>
              <a:off x="4024440" y="6307200"/>
              <a:ext cx="5119560" cy="0"/>
            </a:xfrm>
            <a:prstGeom prst="line">
              <a:avLst/>
            </a:prstGeom>
            <a:ln w="76320">
              <a:solidFill>
                <a:srgbClr val="ca53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429000" y="6248520"/>
              <a:ext cx="5616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r" pos="38894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© 2009 South-Western, Cengage Lear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3657600" y="6248520"/>
              <a:ext cx="1828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r" pos="38894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400" spc="-1" strike="noStrike">
                  <a:solidFill>
                    <a:srgbClr val="3f7ebd"/>
                  </a:solidFill>
                  <a:latin typeface="Arial"/>
                </a:rPr>
                <a:t>MARKE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ftr" idx="1"/>
          </p:nvPr>
        </p:nvSpPr>
        <p:spPr>
          <a:xfrm>
            <a:off x="685800" y="617184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2800" spc="-1" strike="noStrike">
                <a:solidFill>
                  <a:srgbClr val="b9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0" y="6296040"/>
            <a:ext cx="1371600" cy="0"/>
          </a:xfrm>
          <a:prstGeom prst="line">
            <a:avLst/>
          </a:prstGeom>
          <a:ln w="76320">
            <a:solidFill>
              <a:srgbClr val="00a5e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0" y="1752480"/>
            <a:ext cx="4570560" cy="1098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solidFill>
            <a:srgbClr val="b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2"/>
          </p:nvPr>
        </p:nvSpPr>
        <p:spPr>
          <a:xfrm>
            <a:off x="8457840" y="-360"/>
            <a:ext cx="68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ECCE-B7B1-4D66-9344-035EDF65DDF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23144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6"/>
          <p:cNvGrpSpPr/>
          <p:nvPr/>
        </p:nvGrpSpPr>
        <p:grpSpPr>
          <a:xfrm>
            <a:off x="3429000" y="6248520"/>
            <a:ext cx="5715000" cy="457200"/>
            <a:chOff x="3429000" y="6248520"/>
            <a:chExt cx="5715000" cy="457200"/>
          </a:xfrm>
        </p:grpSpPr>
        <p:sp>
          <p:nvSpPr>
            <p:cNvPr id="52" name="Line 7"/>
            <p:cNvSpPr/>
            <p:nvPr/>
          </p:nvSpPr>
          <p:spPr>
            <a:xfrm>
              <a:off x="4024440" y="6307200"/>
              <a:ext cx="5119560" cy="0"/>
            </a:xfrm>
            <a:prstGeom prst="line">
              <a:avLst/>
            </a:prstGeom>
            <a:ln w="76320">
              <a:solidFill>
                <a:srgbClr val="ca53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8"/>
            <p:cNvSpPr/>
            <p:nvPr/>
          </p:nvSpPr>
          <p:spPr>
            <a:xfrm>
              <a:off x="3429000" y="6248520"/>
              <a:ext cx="5616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r" pos="38894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© 2009 South-Western, Cengage Lear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9"/>
            <p:cNvSpPr/>
            <p:nvPr/>
          </p:nvSpPr>
          <p:spPr>
            <a:xfrm>
              <a:off x="3657600" y="6248520"/>
              <a:ext cx="1828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r" pos="38894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400" spc="-1" strike="noStrike">
                  <a:solidFill>
                    <a:srgbClr val="3f7ebd"/>
                  </a:solidFill>
                  <a:latin typeface="Arial"/>
                </a:rPr>
                <a:t>MARKE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Line 10"/>
          <p:cNvSpPr/>
          <p:nvPr/>
        </p:nvSpPr>
        <p:spPr>
          <a:xfrm>
            <a:off x="0" y="6296040"/>
            <a:ext cx="1371600" cy="0"/>
          </a:xfrm>
          <a:prstGeom prst="line">
            <a:avLst/>
          </a:prstGeom>
          <a:ln w="76320">
            <a:solidFill>
              <a:srgbClr val="00a5e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1"/>
          <p:cNvSpPr/>
          <p:nvPr/>
        </p:nvSpPr>
        <p:spPr>
          <a:xfrm>
            <a:off x="0" y="2514600"/>
            <a:ext cx="1371600" cy="0"/>
          </a:xfrm>
          <a:prstGeom prst="line">
            <a:avLst/>
          </a:prstGeom>
          <a:ln w="76320">
            <a:solidFill>
              <a:srgbClr val="00a5e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solidFill>
            <a:srgbClr val="b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33624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6640" indent="-3376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56120" indent="-33768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95600" indent="-3376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95600" indent="-337680"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95600" indent="-337680"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Num" idx="3"/>
          </p:nvPr>
        </p:nvSpPr>
        <p:spPr>
          <a:xfrm>
            <a:off x="8457840" y="-360"/>
            <a:ext cx="68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37CA-9DA3-4686-B957-0FD0D33235C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4"/>
          </p:nvPr>
        </p:nvSpPr>
        <p:spPr>
          <a:xfrm>
            <a:off x="685800" y="617184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2800" spc="-1" strike="noStrike">
                <a:solidFill>
                  <a:srgbClr val="b9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3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2777-6AC1-42FC-9529-DB0AEBF0F6A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COMPETITION IS </a:t>
            </a:r>
            <a:br>
              <a:rPr sz="4000"/>
            </a:b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EVERYWHERE</a:t>
            </a:r>
            <a:endParaRPr b="1" lang="en-US" sz="40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2742840"/>
            <a:ext cx="777240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95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a5302"/>
                </a:solidFill>
                <a:latin typeface="Arial"/>
              </a:rPr>
              <a:t>7-1</a:t>
            </a:r>
            <a:r>
              <a:rPr b="1" lang="en-US" sz="3200" spc="-1" strike="noStrike">
                <a:solidFill>
                  <a:srgbClr val="ca53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ing on Market Se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5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a5302"/>
                </a:solidFill>
                <a:latin typeface="Arial"/>
              </a:rPr>
              <a:t>7-2</a:t>
            </a:r>
            <a:r>
              <a:rPr b="1" lang="en-US" sz="3200" spc="-1" strike="noStrike">
                <a:solidFill>
                  <a:srgbClr val="ca53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oning for Competitive Advan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5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a5302"/>
                </a:solidFill>
                <a:latin typeface="Arial"/>
              </a:rPr>
              <a:t>7-3</a:t>
            </a:r>
            <a:r>
              <a:rPr b="1" lang="en-US" sz="3200" spc="-1" strike="noStrike">
                <a:solidFill>
                  <a:srgbClr val="ca53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ing for Market Se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5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a5302"/>
                </a:solidFill>
                <a:latin typeface="Arial"/>
              </a:rPr>
              <a:t>7-4</a:t>
            </a:r>
            <a:r>
              <a:rPr b="1" lang="en-US" sz="3200" spc="-1" strike="noStrike">
                <a:solidFill>
                  <a:srgbClr val="ca53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about the Com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152280" y="15228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ca53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HAPTER</a:t>
            </a:r>
            <a:br>
              <a:rPr sz="32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6C3E-61AD-4453-BA05-9710A8F3C90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Views on Competition 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arket Segment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4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ose businesses that have products appealing to their selected market segme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0">
              <a:spcBef>
                <a:spcPts val="1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ass Market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4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ery business competing in the market is a competit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38ED-CECF-44D7-97A8-7E16175870C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Segmentation Categorie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534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Geographi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based on where they li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329400">
              <a:spcBef>
                <a:spcPts val="4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ry (Lg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Zip Code (S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329400">
              <a:spcBef>
                <a:spcPts val="4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idea that people who live in the same area have similar needs and want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emographi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age, gender, race, income, educational leve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2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823F-8514-4701-BF5D-044BD1BF2F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24"/>
          <p:cNvGrpSpPr/>
          <p:nvPr/>
        </p:nvGrpSpPr>
        <p:grpSpPr>
          <a:xfrm>
            <a:off x="1019160" y="1865160"/>
            <a:ext cx="7086600" cy="4329360"/>
            <a:chOff x="1019160" y="1865160"/>
            <a:chExt cx="7086600" cy="4329360"/>
          </a:xfrm>
        </p:grpSpPr>
        <p:pic>
          <p:nvPicPr>
            <p:cNvPr id="156" name="Picture 16" descr=""/>
            <p:cNvPicPr/>
            <p:nvPr/>
          </p:nvPicPr>
          <p:blipFill>
            <a:blip r:embed="rId1"/>
            <a:srcRect l="0" t="0" r="3704" b="1424"/>
            <a:stretch/>
          </p:blipFill>
          <p:spPr>
            <a:xfrm>
              <a:off x="1019160" y="1865160"/>
              <a:ext cx="7086600" cy="432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Rectangle 22"/>
            <p:cNvSpPr/>
            <p:nvPr/>
          </p:nvSpPr>
          <p:spPr>
            <a:xfrm>
              <a:off x="1938240" y="2909880"/>
              <a:ext cx="6019920" cy="190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Demographic Characteristics of Education and Income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pic>
        <p:nvPicPr>
          <p:cNvPr id="159" name="Picture 17" descr=""/>
          <p:cNvPicPr/>
          <p:nvPr/>
        </p:nvPicPr>
        <p:blipFill>
          <a:blip r:embed="rId2"/>
          <a:srcRect l="77627" t="0" r="3688" b="1375"/>
          <a:stretch/>
        </p:blipFill>
        <p:spPr>
          <a:xfrm>
            <a:off x="6732720" y="1863720"/>
            <a:ext cx="1374480" cy="4330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8" descr=""/>
          <p:cNvPicPr/>
          <p:nvPr/>
        </p:nvPicPr>
        <p:blipFill>
          <a:blip r:embed="rId3"/>
          <a:srcRect l="61345" t="0" r="22326" b="1375"/>
          <a:stretch/>
        </p:blipFill>
        <p:spPr>
          <a:xfrm>
            <a:off x="5533920" y="1863720"/>
            <a:ext cx="1201680" cy="4330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9" descr=""/>
          <p:cNvPicPr/>
          <p:nvPr/>
        </p:nvPicPr>
        <p:blipFill>
          <a:blip r:embed="rId4"/>
          <a:srcRect l="44960" t="0" r="38711" b="1375"/>
          <a:stretch/>
        </p:blipFill>
        <p:spPr>
          <a:xfrm>
            <a:off x="4327560" y="1863720"/>
            <a:ext cx="1201680" cy="4330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0" descr=""/>
          <p:cNvPicPr/>
          <p:nvPr/>
        </p:nvPicPr>
        <p:blipFill>
          <a:blip r:embed="rId5"/>
          <a:srcRect l="28880" t="0" r="54894" b="1375"/>
          <a:stretch/>
        </p:blipFill>
        <p:spPr>
          <a:xfrm>
            <a:off x="3144960" y="1863720"/>
            <a:ext cx="1193760" cy="4330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1" descr=""/>
          <p:cNvPicPr/>
          <p:nvPr/>
        </p:nvPicPr>
        <p:blipFill>
          <a:blip r:embed="rId6"/>
          <a:srcRect l="12598" t="0" r="70970" b="1375"/>
          <a:stretch/>
        </p:blipFill>
        <p:spPr>
          <a:xfrm>
            <a:off x="1946160" y="1863720"/>
            <a:ext cx="1209960" cy="4330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D8D9-4B8F-421A-99D8-C6E24467FF9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Segmentation Categorie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sychographic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interests/valu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15720">
              <a:spcBef>
                <a:spcPts val="4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festyle cho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15720">
              <a:spcBef>
                <a:spcPts val="4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ok Stores, Coffee Shops, etc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88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000000"/>
                </a:solidFill>
                <a:uFillTx/>
                <a:latin typeface="Arial"/>
              </a:rPr>
              <a:t>Product Usage</a:t>
            </a: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frequency/quantity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15720">
              <a:spcBef>
                <a:spcPts val="4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one Pl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15720">
              <a:spcBef>
                <a:spcPts val="4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tel Stay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usiness/Final Consum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FEB1-77CD-4607-AFAA-ED541334E6F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Segmentation Categorie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enefit Expecta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4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nefits expected from use of a particular product or service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341280">
              <a:spcBef>
                <a:spcPts val="400"/>
              </a:spcBef>
              <a:buClr>
                <a:srgbClr val="ca5302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nefit Segm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-341280">
              <a:spcBef>
                <a:spcPts val="34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s consumers into groups depending on benefits they expect or require from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9A58-5EA5-4051-8E56-DFFC2232D2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Identifying and Analyzing</a:t>
            </a:r>
            <a:br>
              <a:rPr sz="3600"/>
            </a:b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Market Segment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arket Opportun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is an identified market with excellent potential based on careful researc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3" marL="1356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ing Possible Se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ing Market Pot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4D48-91DA-4147-B8D2-A69A0AB845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Identifying Possible Segment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ca53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a market or product categ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a53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a basis for segmenting the mark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a53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her information for analy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a53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segments that exist in the mark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a53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market information to choose the markets that present greatest &amp; least amt of potent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468E-C37F-492E-85F5-1B1B135E8CC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Determining Market Potential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a53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potential cust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a53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 in the product or service and other mix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a53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ey available to make the purc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a53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communicate with and distribute product to consu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5F66-2268-4F00-A863-D5C99D306E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Market Potential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arket Potenti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is the total revenue that can be obtained from the market segme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2E88-9D0D-413F-ABA2-BDACC8EFA59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Market Share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arket Sha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is the portion of the total market potential that each company expects to get in relation to its competito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1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2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2C01-BC71-441B-A4A0-BC79242C007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rcRect l="0" t="0" r="2457" b="0"/>
          <a:stretch/>
        </p:blipFill>
        <p:spPr>
          <a:xfrm>
            <a:off x="5029200" y="609480"/>
            <a:ext cx="3632040" cy="7207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 rot="16200000">
            <a:off x="-897480" y="4735440"/>
            <a:ext cx="292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urtesy of PJ Madison’s. Used with permiss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410080" y="1371600"/>
            <a:ext cx="35816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a5302"/>
                </a:solidFill>
                <a:latin typeface="Arial"/>
              </a:rPr>
              <a:t>Focus Ques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1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what ways is PJ Madison’s trying to suggest its ice cream is different and better than other brand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1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ypes of consumers do you believe will be attracted to the advertisemen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1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your view, is the ad effective at encouraging customers to try PJ Madison’s ice cream? Why or why no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2"/>
          <a:srcRect l="0" t="1371" r="1815" b="4107"/>
          <a:stretch/>
        </p:blipFill>
        <p:spPr>
          <a:xfrm>
            <a:off x="0" y="11160"/>
            <a:ext cx="5257800" cy="6846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5649-E08C-4ECF-A91B-4C4629B6219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POSITIONING FOR</a:t>
            </a:r>
            <a:br>
              <a:rPr sz="3600"/>
            </a:b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OMPETITIVE ADVANTAGE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cc00"/>
                </a:solidFill>
                <a:latin typeface="Arial"/>
              </a:rPr>
              <a:t>GOAL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plain the various bases for positioning a product to distinguish it from the competition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scribe the three common positioning strategie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6"/>
          <p:cNvSpPr/>
          <p:nvPr/>
        </p:nvSpPr>
        <p:spPr>
          <a:xfrm>
            <a:off x="152280" y="152280"/>
            <a:ext cx="1371600" cy="914400"/>
          </a:xfrm>
          <a:prstGeom prst="roundRect">
            <a:avLst>
              <a:gd name="adj" fmla="val 16667"/>
            </a:avLst>
          </a:prstGeom>
          <a:solidFill>
            <a:srgbClr val="ca53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-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3B20-5136-44A5-850B-7826E9902A1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Basis for Positioning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arket Pos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refers to the unique image of a product or service in a consumer’s mind relative to similar competitive offering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01A3-F0A4-48FA-9318-4746390D6C5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Basis for Positioning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ttribu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highlight product fea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thpast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itening featur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rice &amp; Qualit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price = quality (Mercedes Ben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price = value (Wal-M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2FC5-AA56-4917-B4E9-76BFBA93386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Basis for Positioning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Use or Applica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Uniquene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33624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m &amp; Hammer – Baking or Deodorizing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roduct Us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Type of Person(ality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33624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hletic Apparel – Professional Athl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33624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psi Generation – Young Active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33624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ney – Family Oriented Activ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B925-A592-47FD-BE13-5844476A15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Basis for Positioning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roduct Classifica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categ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336240">
              <a:lnSpc>
                <a:spcPct val="90000"/>
              </a:lnSpc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mtrak - service/schedule of air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336240">
              <a:lnSpc>
                <a:spcPct val="90000"/>
              </a:lnSpc>
              <a:spcBef>
                <a:spcPts val="85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rk - ‘the other white meat’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(poultry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ompetito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compared to compet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336240">
              <a:lnSpc>
                <a:spcPct val="90000"/>
              </a:lnSpc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rs - ranked next to th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336240">
              <a:lnSpc>
                <a:spcPct val="90000"/>
              </a:lnSpc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Up - the ‘uncola’ comparing to co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3C67-14A7-4E77-904D-62573996C69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83"/>
          <p:cNvSpPr/>
          <p:nvPr/>
        </p:nvSpPr>
        <p:spPr>
          <a:xfrm>
            <a:off x="685800" y="2286000"/>
            <a:ext cx="8001000" cy="609480"/>
          </a:xfrm>
          <a:prstGeom prst="rect">
            <a:avLst/>
          </a:prstGeom>
          <a:solidFill>
            <a:srgbClr val="ffe1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97"/>
          <p:cNvSpPr/>
          <p:nvPr/>
        </p:nvSpPr>
        <p:spPr>
          <a:xfrm>
            <a:off x="685800" y="3565440"/>
            <a:ext cx="8001000" cy="609840"/>
          </a:xfrm>
          <a:prstGeom prst="rect">
            <a:avLst/>
          </a:prstGeom>
          <a:solidFill>
            <a:srgbClr val="ffe1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98"/>
          <p:cNvSpPr/>
          <p:nvPr/>
        </p:nvSpPr>
        <p:spPr>
          <a:xfrm>
            <a:off x="685800" y="4844880"/>
            <a:ext cx="8001000" cy="609840"/>
          </a:xfrm>
          <a:prstGeom prst="rect">
            <a:avLst/>
          </a:prstGeom>
          <a:solidFill>
            <a:srgbClr val="ffe1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99"/>
          <p:cNvSpPr/>
          <p:nvPr/>
        </p:nvSpPr>
        <p:spPr>
          <a:xfrm>
            <a:off x="685800" y="2925720"/>
            <a:ext cx="8001000" cy="609480"/>
          </a:xfrm>
          <a:prstGeom prst="rect">
            <a:avLst/>
          </a:prstGeom>
          <a:solidFill>
            <a:srgbClr val="d0e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00"/>
          <p:cNvSpPr/>
          <p:nvPr/>
        </p:nvSpPr>
        <p:spPr>
          <a:xfrm>
            <a:off x="685800" y="4205160"/>
            <a:ext cx="8001000" cy="609840"/>
          </a:xfrm>
          <a:prstGeom prst="rect">
            <a:avLst/>
          </a:prstGeom>
          <a:solidFill>
            <a:srgbClr val="d0e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01"/>
          <p:cNvSpPr/>
          <p:nvPr/>
        </p:nvSpPr>
        <p:spPr>
          <a:xfrm>
            <a:off x="685800" y="5486400"/>
            <a:ext cx="8001000" cy="609480"/>
          </a:xfrm>
          <a:prstGeom prst="rect">
            <a:avLst/>
          </a:prstGeom>
          <a:solidFill>
            <a:srgbClr val="d0e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685800" y="1905120"/>
          <a:ext cx="8001000" cy="4206600"/>
        </p:xfrm>
        <a:graphic>
          <a:graphicData uri="http://schemas.openxmlformats.org/drawingml/2006/table">
            <a:tbl>
              <a:tblPr/>
              <a:tblGrid>
                <a:gridCol w="2057400"/>
                <a:gridCol w="2971800"/>
                <a:gridCol w="2971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f7e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ndry Product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f7e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ndry Product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f7ebd"/>
                    </a:solidFill>
                  </a:tcPr>
                </a:tc>
              </a:tr>
              <a:tr h="642600">
                <a:tc>
                  <a:txBody>
                    <a:bodyPr lIns="137160" rIns="1371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37160" marR="137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8600" rIns="228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eans quickly and easi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28600" marR="22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8600" rIns="228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ves fresh sc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28600" marR="228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137160" rIns="1371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 and Qu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37160" marR="137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8600" rIns="228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price, good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28600" marR="22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8600" rIns="228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er price for highest qu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28600" marR="228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137160" rIns="1371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or Appl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37160" marR="137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8600" rIns="228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as pre-wash on tough sta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28600" marR="22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8600" rIns="228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for hand-washing delic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28600" marR="228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137160" rIns="1371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 U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37160" marR="137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8600" rIns="228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maker’s reliable fri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28600" marR="22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8600" rIns="228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generation’s discov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28600" marR="228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137160" rIns="1371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 Class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37160" marR="137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8600" rIns="228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by Olympic athle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28600" marR="22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8600" rIns="228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by professional laund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28600" marR="228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137160" rIns="1371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i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37160" marR="137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8600" rIns="228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s out dirt Product B can’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28600" marR="22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8600" rIns="228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tler on clothing than Product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28600" marR="228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Market Posi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E1E5-89C9-42B6-85C9-3C61E7169C3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Selecting a Positioning Strategy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itioning strategies outlin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a company is going to present its product to the consum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it will compete in the marketplace with other businesses offering similar produc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58AB-4078-41BA-9186-F56B5F4ADE7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Selecting a Positioning Strategy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ca53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onsumer Percep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are the images consumers have of competing goods and services in the marketpla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53352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eal to desires and perceptions of their target mark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4384-E3F8-4655-A00D-16C22CC9748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Selecting a Positioning Strategy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ca5302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ompeti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perception they have of company and produc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53352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eally - they perceive the product as superior to competitors’ bas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 the marketed attribu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53352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a Wars – Promotional batt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DCF5-67C1-4602-BD5F-A841166DF95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Selecting a Positioning Strategy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ca5302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usiness Environme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watch changes in B.E. that may affect the position of their produc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53352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roducts Entering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53352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Consumer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53352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53352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ative Public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8202-BA07-4620-9ABF-253FFFD461D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FOCUSING ON </a:t>
            </a:r>
            <a:br>
              <a:rPr sz="3600"/>
            </a:b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MARKET SEGMENT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cc00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how markets can be segmented by geographic location, demographic characteristics, psychographics, product usage, and benefits derive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how to evaluate market potential and calculate market sh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152280" y="152280"/>
            <a:ext cx="1371600" cy="914400"/>
          </a:xfrm>
          <a:prstGeom prst="roundRect">
            <a:avLst>
              <a:gd name="adj" fmla="val 16667"/>
            </a:avLst>
          </a:prstGeom>
          <a:solidFill>
            <a:srgbClr val="ca53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-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EF17-01B6-451A-8281-D8692833FC9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OMPETING FOR </a:t>
            </a:r>
            <a:br>
              <a:rPr sz="3600"/>
            </a:b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MARKET SEGMENT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cc00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lain direct vs. indirect competition and price vs. non-price competition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cribe the benefits of competition to consum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6"/>
          <p:cNvSpPr/>
          <p:nvPr/>
        </p:nvSpPr>
        <p:spPr>
          <a:xfrm>
            <a:off x="152280" y="152280"/>
            <a:ext cx="1371600" cy="914400"/>
          </a:xfrm>
          <a:prstGeom prst="roundRect">
            <a:avLst>
              <a:gd name="adj" fmla="val 16667"/>
            </a:avLst>
          </a:prstGeom>
          <a:solidFill>
            <a:srgbClr val="ca53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-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4828-8441-425B-9433-028E6ACB1F2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Types of Competition for Positioning Decision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usinesses must be able t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-341280"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 and reach a market segment that has a need for their produc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-341280"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ition itself effectively against its competitor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554F-B967-4FDE-9F87-1AC8462AC8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Types of Competition </a:t>
            </a:r>
            <a:br>
              <a:rPr sz="3600"/>
            </a:b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Direct vs. Indirect Competi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irect Competi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competition in a market with businesses that offer the same type of produc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320760">
              <a:spcBef>
                <a:spcPts val="7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tels competing for traveling 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320760">
              <a:spcBef>
                <a:spcPts val="7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hletic Apparel (Nike, Adidas, Reebo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320760">
              <a:spcBef>
                <a:spcPts val="7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 Food Chains (McDonalds vs. B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320760">
              <a:spcBef>
                <a:spcPts val="7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e Theatres (Warrington vs. Regal Bar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320760">
              <a:spcBef>
                <a:spcPts val="7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e Rentals  (Red Box vs. On-Deman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1E07-7A19-4392-B252-8562D79BF97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Types of Competition </a:t>
            </a:r>
            <a:br>
              <a:rPr sz="3600"/>
            </a:b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Direct vs. Indirect Competi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ndirect Competi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eting with companies offering products that are not in the same product category but that satisfy similar customer nee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678600" indent="-333000">
              <a:spcBef>
                <a:spcPts val="7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hletics vs. Professional Wear (Nike vs. Ga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78600" indent="-333000">
              <a:spcBef>
                <a:spcPts val="7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 Food Chains vs. Grocery S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78600" indent="-333000">
              <a:spcBef>
                <a:spcPts val="7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e Theaters vs. Video Rentals vs. Ice Skating vs. all other forms of entertainment cho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7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1071-1518-46CD-B444-D75EF4F54A6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Types of Competition</a:t>
            </a:r>
            <a:br>
              <a:rPr sz="3600"/>
            </a:b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Price vs. Non-Price Competi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rice Competi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Rivalry among businesses based on price / valu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ocery A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taurant Spec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irfa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E773-F5A8-45A1-87F6-DD528ADD154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Types of Competition</a:t>
            </a:r>
            <a:br>
              <a:rPr sz="3600"/>
            </a:b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Price vs. Non-Price Competi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Non-Price Competi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when businesses emphasize factors of  marketing mix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other than pric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135080" indent="-339840">
              <a:spcBef>
                <a:spcPts val="7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t qua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135080" indent="-339840">
              <a:spcBef>
                <a:spcPts val="7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and na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135080" indent="-339840">
              <a:spcBef>
                <a:spcPts val="7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135080" indent="-339840">
              <a:spcBef>
                <a:spcPts val="7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stomer Serv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B436-D76B-448E-ADCE-2CB7ADA771A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868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f7ebd"/>
                </a:solidFill>
                <a:latin typeface="Arial"/>
              </a:rPr>
              <a:t>Reasons for </a:t>
            </a:r>
            <a:br>
              <a:rPr sz="3800"/>
            </a:br>
            <a:r>
              <a:rPr b="1" lang="en-US" sz="3800" spc="-1" strike="noStrike">
                <a:solidFill>
                  <a:srgbClr val="3f7ebd"/>
                </a:solidFill>
                <a:latin typeface="Arial"/>
              </a:rPr>
              <a:t>Non-Price Competition</a:t>
            </a:r>
            <a:endParaRPr b="1" lang="en-US" sz="38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y not have control of pr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22560">
              <a:spcBef>
                <a:spcPts val="7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surance Companies (Gov. Regulated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22560">
              <a:spcBef>
                <a:spcPts val="7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cus: Easy Application, Personalized Services, Prompt Claims Service, etc.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ce might be higher than o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22560">
              <a:spcBef>
                <a:spcPts val="7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mall Business vs. Large (Wal-Mar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22560">
              <a:spcBef>
                <a:spcPts val="7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cus: Individualized attention, delivery, set-up, after sale service, business his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58F8-209E-49B4-852E-2EE6B33885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f7ebd"/>
                </a:solidFill>
                <a:uFillTx/>
                <a:latin typeface="Arial"/>
              </a:rPr>
              <a:t>Consumer</a:t>
            </a: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 Benefits of Competi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24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umer receives the best price for products.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(Most Valu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Cheapest Price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etition encourages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mprovemen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n products with the addition of unique features and benefits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Stand Out, Be Distinc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8231-0789-4AD4-8625-18778CDA9B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Benefits of Competi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sinesses are always looking for new and improved products to match their competi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etition offers consumers the benefit of a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ide variet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f products from which to choo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340A-F862-4396-B8A7-BAED99687F8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LEARNING ABOUT </a:t>
            </a:r>
            <a:br>
              <a:rPr sz="3600"/>
            </a:b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THE COMPETI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cc00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uss the types of information businesses need to know about their competito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cribe the kinds of activities businesses engage in to gain marketing intelligen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6"/>
          <p:cNvSpPr/>
          <p:nvPr/>
        </p:nvSpPr>
        <p:spPr>
          <a:xfrm>
            <a:off x="152280" y="152280"/>
            <a:ext cx="1371600" cy="914400"/>
          </a:xfrm>
          <a:prstGeom prst="roundRect">
            <a:avLst>
              <a:gd name="adj" fmla="val 16667"/>
            </a:avLst>
          </a:prstGeom>
          <a:solidFill>
            <a:srgbClr val="ca53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-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420E-089D-47C7-9299-7D1CC8A8169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Market Segmenta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sinesses must direct their efforts and resources toward marketing strategies which compete fo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4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les Dolla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4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stome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4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ket Shar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A215-3F3E-47FB-B014-9D6E211C470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Types of Competitive Informa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icing Strate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336240"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e competitors planning sa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336240"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e they raising/lowering pri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336240"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e they adding new featu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336240"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new op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336240"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new servi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AF4E-E373-442F-B2A4-4D7E2A9B222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Types of Competitive Informa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stribution Deci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vailability/Location conveni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e there large quantit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e there large selec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vailable online &amp; in sto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D5CE-73CA-4F6C-BC0E-7530CCBD675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Types of Competitive Informa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duct/Service 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32940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nges in products being offer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32940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llenge to anticipate new produc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32940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ually results in at least a temporary shift in purchases during the introduction stag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3CF9-8A7A-45E8-8F4F-29A4285EDA4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Types of Competitive Informa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motional Effo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nged quickly if need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bs consumer atten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ll-timed can have direct impact on business sales &amp; competito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C32E-E0E0-4BB2-9C80-3EFACBA0BF7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Types of Competitive Informa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etitor’s Market Pos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dy the competi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ow their strengths / weakness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 able to anticipate their ac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pare for their ac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A222-6890-4955-8339-FF155F1732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ollecting Competitive Informa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arketing Intelligenc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process of gaining competitive marketing informatio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D9B1-942E-468C-9447-36B70917E14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ollecting Competitive Information</a:t>
            </a:r>
            <a:br>
              <a:rPr sz="3600"/>
            </a:b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Information Source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ca53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lespeople &amp; other employe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ca53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etitors’ products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ca53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ticles, research reports, and public inform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ca53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fessional &amp; trade publ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4BEC-2E26-4EB7-B332-9E7C5FDF89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ollecting Competitive Information</a:t>
            </a:r>
            <a:br>
              <a:rPr sz="3600"/>
            </a:b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Information Source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ca5302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stomers &amp; customer reco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ca5302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rade sho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457200"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hibitions where companies associated with an industry gather to showcase their produc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ca5302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26C5-2D9F-4AA5-979C-5EEEC156D7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ollecting Competitive Information</a:t>
            </a:r>
            <a:br>
              <a:rPr sz="3600"/>
            </a:b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Information Source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g companies - staff responsible for working with marketing intelligen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iv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533520">
              <a:lnSpc>
                <a:spcPct val="80000"/>
              </a:lnSpc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entify strengths/weaknesses of key competito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533520">
              <a:lnSpc>
                <a:spcPct val="80000"/>
              </a:lnSpc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sess their current marketing strateg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533520">
              <a:lnSpc>
                <a:spcPct val="80000"/>
              </a:lnSpc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dict their future ac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0BB0-FDD7-4F16-8BED-E2624B2476A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3f7ebd"/>
                </a:solidFill>
                <a:uFillTx/>
                <a:latin typeface="Arial"/>
              </a:rPr>
              <a:t>Un-Ethical Behavior</a:t>
            </a: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 Behind </a:t>
            </a:r>
            <a:br>
              <a:rPr sz="3600"/>
            </a:b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ollecting Competitive Informa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taining information under false pretenses or misleading inf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cessing restricted dat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umpster diving – illeg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ibing employees – illeg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3B19-F73F-458C-9EE8-B55E43B8EFA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Market Segmenta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arket Segment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a group of individuals or organizations within a larger market that share one or more important characteristic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4FEE-5435-40A2-A31F-15A12A9597E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3f7ebd"/>
                </a:solidFill>
                <a:uFillTx/>
                <a:latin typeface="Arial"/>
              </a:rPr>
              <a:t>Protecting Yourself</a:t>
            </a: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ollecting Competitive Informa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nies should clearly communicate their expectations about confidentiality of information to employees, suppliers and customers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vide guidelines in ‘Code of Ethics’ about sharing and using inform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4787-6177-4BA0-99B7-E1CAFBAEF89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Market Segmenta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arket Segmentation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process of dividing a large group of consumers into subgroups based on specific characteristics and common need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5FD1-B29B-44DE-8F12-C518D087087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Benefits of Segmenta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businesses are unwilling to spend extra time and $$ on market segment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 they use Mass Marketing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ass Market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directs company’s marketing mix at a large heterogeneous group of consumer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0868-F685-4A28-8EEA-F5B3A659DA4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Advantages vs. Disadvantage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arket Segment Advantag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4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re likely to meet the needs of target mark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arket Segment Disadvantag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4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s more time to gather and analyze the information to seg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BFDB-C4D8-4E29-871A-05B099EF599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Advantages vs. Disadvantage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ass Marketing Adavantag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4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gher potential sales volume and efficiencies of scale in larger marke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ass Marketing Disadvantag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4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ccess more difficult because you are trying to appeal to diverse grou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7T01:10:53Z</dcterms:created>
  <dc:creator/>
  <dc:description/>
  <dc:language>en-US</dc:language>
  <cp:lastModifiedBy>tmsadmin</cp:lastModifiedBy>
  <dcterms:modified xsi:type="dcterms:W3CDTF">2013-12-03T17:49:44Z</dcterms:modified>
  <cp:revision>56</cp:revision>
  <dc:subject/>
  <dc:title>COMPETITION IS  EVERYWHERE</dc:title>
</cp:coreProperties>
</file>